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F6F9-3AC2-411C-9240-143B8E901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D2A7-F060-4DCA-AE8C-4015BA5C9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8F7C-FE7A-4976-A256-68950923D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C050-23E3-4ABE-9E37-83A873091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77F9B-3BAF-46D9-8A35-81E1406E6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0BD77-F5D1-4AAE-809F-993FA6A2C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B032F-922C-4D2B-A7FA-4723DEB55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3A074-F3ED-4B87-B4E5-4C245F697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3FFAB-B2A1-43EE-8F0F-850A3CA5D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33E0D-F9A3-493B-9663-CF19A44FE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69780-11D4-4FDD-9667-ED04A4637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D15AA-A024-45C0-B15C-134258E4A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9B1C1-4AE7-42A4-BAFE-FCC283ACD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669D4-2866-4274-AE09-7095F8D1F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1F876-E5A9-46BB-9888-AD5A84CB5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02443-B51B-487B-AD3F-BF2B5D9AB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63AFB-1E70-483B-865D-5FFCF4FE5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65A643-7B88-439A-97AB-064992489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3198EA-16E8-4B38-87E7-B0CB02238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D73D5B7-0C75-4E84-8378-8AC7CCAAE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698001-C239-4F63-BA5D-BDF4321F7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C08FD3-B44C-4DB9-A194-61876C218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21EB-7D62-44A2-AB03-E477207A5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449DB9-17C7-41CB-8E3A-DA69B63EC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9598BD-D96C-4972-8082-481099311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4E07E7-0015-4848-A04C-D16DA30C1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8144DC-524F-4FA9-85CE-586CF48D2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CD8564-E5EE-40DB-8EEB-EEDF80648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331E84-DA29-4B4D-8341-16AA27CEE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9B7F56-0B62-4826-8146-EC11810AA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812E49-1BE6-401D-98A2-373B8E026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F52BB6-0208-4BAA-B4C5-2E6A63B47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F263A3-D79B-43A1-8DD3-C0D63D076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4C06-D1CF-45DC-A5FD-9FBA4EF28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EDA28A-B1E5-431D-BC7D-F651D2D5D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9AD97D-A978-47F1-B7C6-35CAAAEE1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E93AF5-24C1-4AD4-8727-2BB0A8C12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ADDE5E-69DD-4B6B-976A-F7C68B33D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43CAE1-D9A8-4D67-B698-1D80B139C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07BDCD-F9C3-471B-8F65-91281A3DD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5BD76E-F583-400E-825D-C1FBD489A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8231F2-E883-4D19-A54D-172177C99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63D01D-6D1E-4FE4-99EA-FBDC577CF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9E3FD8D-B1FB-482E-B2E9-D447034A9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C6E83-CDED-4AEC-A1D5-6F7EE69BE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1729AD9-5754-47DE-BACD-6FD921883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6F78B3B-847C-4E38-9D12-3062DE7BA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A353D02-117E-42D8-898D-33EDB71F7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AAA2F7-7C03-4F50-931B-3E12DA5C0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7C863E-5625-43B4-A59C-99F1AF8AF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B9310D-3DE7-4BE6-8C73-E26542C0B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164D81-E43B-4F81-AA43-61EF1C014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7851AE5-AA29-475A-B44D-1D9165597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6DDBDE-5E1A-48A1-84C9-49CF5C621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7FD8E0-ED75-4FAE-AD69-CF8DC6A40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368B-47E2-4A0C-AE1F-94AE8E544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994387-300B-41FD-8FEE-AA0E94B06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0468D8F-F8D0-43F8-960C-4CB6B9341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295A685-391E-47EE-BAA1-7185255F6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89EAB62-047C-402A-808D-4DA70049B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557F1C1-1AB4-4E47-85D9-463506FEB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AFB75F7-3D59-4540-8E4F-65F511084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38B58D-79F4-4D10-8FCC-8D9D94E1D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9B0041A-D61B-4DD3-9F22-D7CED2C8F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B4E33DB-FF5C-40FD-A5D2-23FEFDEE2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E916CC-1FC0-4F36-B892-67F69607F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49B51-667C-4728-8E66-8ACF10559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EB08013-0910-482E-A5DC-E525A1F72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938C16E-B6A1-4388-A7F7-4F221007F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8A00CA7-1E35-438F-8B7B-A1C0816D9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5E4F6C0-364B-4D7D-9808-B6090D6DA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8637A0C-8860-4259-BF02-F74D36798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DBF5495-41D9-44BA-B012-5EC9AAFCB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858831F-19D8-4524-AAC9-3CB464A53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AA13D00-B311-46AF-A087-FB712B924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AFD0572-42E3-4A07-B03C-4CB46DCF0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48AAC12-531E-4016-A293-5A5108AA2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3DDC-3E3E-4E67-95EC-51BACE7B1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3FD86C8-8233-4BA0-B1A6-80510252D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E517FFC-E8B7-49A0-B027-8CE59E895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5FE4EEF-3951-4630-BFF5-58E68A494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61CE188-795E-4C93-A045-1A025C469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08476CF-6B1C-4019-B76E-362D152AC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B116-629F-4931-94F3-7F2D3BAF6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D1D12-56C4-4270-939A-AEC2B847FDB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FFEAC-79EF-4A4F-B977-E47772E0D54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445CF-504B-4460-9116-EE57B7A03BA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4EB59-F08F-409D-B49A-A6765089C18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FAF67-C876-40B6-83A0-96DD788FE6A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09D71-90D4-48EF-B049-BBC8749C1B0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A3066-9362-4210-933C-106813EC8F3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D:\SACH Y HOC\UpToDate\contents\mobipreview.htm" TargetMode="External"/><Relationship Id="rId2" Type="http://schemas.openxmlformats.org/officeDocument/2006/relationships/hyperlink" Target="file:///D:\SACH Y HOC\UpToDate\contents\mobipreview.htm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D:\SACH Y HOC\UpToDate\contents\mobipreview.htm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-360" y="838080"/>
            <a:ext cx="89917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5f6d"/>
                </a:solidFill>
                <a:latin typeface="Calibri"/>
                <a:ea typeface="Calibri"/>
              </a:rPr>
              <a:t>PATIENT PREPARATION BEFORE CONTRAST ENEMA IN HIRSCHSPRUNG DIAGNOSIS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7543440" y="6273360"/>
            <a:ext cx="1600200" cy="5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alibri"/>
                <a:ea typeface="Calibri"/>
              </a:rPr>
              <a:t>21-01-2014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75f6d"/>
                </a:solidFill>
                <a:latin typeface="Calibri"/>
                <a:ea typeface="Calibri"/>
              </a:rPr>
              <a:t>CONTRAST ENEMA - FALSE NEGATIVE RESULT</a:t>
            </a:r>
            <a:br>
              <a:rPr sz="2700"/>
            </a:b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75c01"/>
                </a:solidFill>
                <a:latin typeface="Calibri"/>
                <a:ea typeface="Calibri"/>
              </a:rPr>
              <a:t>Transition zone (-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Young infant (&lt;1m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Total aganglionosi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Cleanse the colon in 24-48h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The catheter has been placed above the transition zon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Enterocoliti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75c01"/>
                </a:solidFill>
                <a:latin typeface="Calibri"/>
                <a:ea typeface="Calibri"/>
              </a:rPr>
              <a:t>Rectal sigmoid index (-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Digital rectal examination in 24h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Picture 2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2413080" cy="312408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4" descr=""/>
          <p:cNvPicPr/>
          <p:nvPr/>
        </p:nvPicPr>
        <p:blipFill>
          <a:blip r:embed="rId2"/>
          <a:stretch/>
        </p:blipFill>
        <p:spPr>
          <a:xfrm>
            <a:off x="457200" y="3733920"/>
            <a:ext cx="8194680" cy="190476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5" descr=""/>
          <p:cNvPicPr/>
          <p:nvPr/>
        </p:nvPicPr>
        <p:blipFill>
          <a:blip r:embed="rId3"/>
          <a:stretch/>
        </p:blipFill>
        <p:spPr>
          <a:xfrm>
            <a:off x="3581280" y="533520"/>
            <a:ext cx="427680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752480" y="761760"/>
            <a:ext cx="73152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  <a:ea typeface="Calibri"/>
              </a:rPr>
              <a:t>CONGENITAL AGANGLIONIC MEGACOLON (HIRSCHSPRUNG DISEASE)</a:t>
            </a:r>
            <a:br>
              <a:rPr sz="2700"/>
            </a:b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380880" y="2666880"/>
            <a:ext cx="82296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Contrast enema is less sensitive than rectal suction biopsy and anorectal manometry for the diagnosis of HD (</a:t>
            </a:r>
            <a:r>
              <a:rPr b="0" lang="en-US" sz="2800" spc="-1" strike="noStrike" u="sng">
                <a:solidFill>
                  <a:srgbClr val="d2611c"/>
                </a:solidFill>
                <a:uFillTx/>
                <a:latin typeface="Calibri"/>
                <a:ea typeface="Calibri"/>
                <a:hlinkClick r:id="rId1"/>
              </a:rPr>
              <a:t>table 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) [</a:t>
            </a:r>
            <a:r>
              <a:rPr b="0" lang="en-US" sz="2800" spc="-1" strike="noStrike" u="sng">
                <a:solidFill>
                  <a:srgbClr val="d2611c"/>
                </a:solidFill>
                <a:uFillTx/>
                <a:latin typeface="Calibri"/>
                <a:ea typeface="Calibri"/>
                <a:hlinkClick r:id="rId2"/>
              </a:rPr>
              <a:t>29,38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].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A digital rectal examination within a few days of the contrast enema may dilate the rectum and cause a false negative result”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1" name="Picture 3" descr="UpToDate-20-146x180.jpg"/>
          <p:cNvPicPr/>
          <p:nvPr/>
        </p:nvPicPr>
        <p:blipFill>
          <a:blip r:embed="rId3"/>
          <a:stretch/>
        </p:blipFill>
        <p:spPr>
          <a:xfrm>
            <a:off x="380880" y="647640"/>
            <a:ext cx="139068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981080" y="761760"/>
            <a:ext cx="701064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Calibri"/>
                <a:ea typeface="Calibri"/>
              </a:rPr>
              <a:t>CONSTIPATION IN CHILDREN</a:t>
            </a:r>
            <a:br>
              <a:rPr sz="3200"/>
            </a:br>
            <a:r>
              <a:rPr b="1" lang="en-US" sz="3200" spc="-1" strike="noStrike">
                <a:solidFill>
                  <a:srgbClr val="002060"/>
                </a:solidFill>
                <a:latin typeface="Calibri"/>
                <a:ea typeface="Calibri"/>
              </a:rPr>
              <a:t>ETIOLOGY AND DIAGNOSIS</a:t>
            </a:r>
            <a:br>
              <a:rPr sz="3200"/>
            </a:b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380880" y="251424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Infants with significant constipation from the neonatal period, especially those with delayed passage of meconium — Perform a </a:t>
            </a:r>
            <a:r>
              <a:rPr b="0" lang="en-US" sz="2800" spc="-1" strike="noStrike" u="sng">
                <a:solidFill>
                  <a:srgbClr val="d2611c"/>
                </a:solidFill>
                <a:uFillTx/>
                <a:latin typeface="Calibri"/>
                <a:ea typeface="Calibri"/>
                <a:hlinkClick r:id="rId1"/>
              </a:rPr>
              <a:t>barium</a:t>
            </a:r>
            <a:r>
              <a:rPr b="0" lang="en-US" sz="2800" spc="-1" strike="noStrike" u="sng">
                <a:solidFill>
                  <a:srgbClr val="002060"/>
                </a:solidFill>
                <a:uFillTx/>
                <a:latin typeface="Calibri"/>
                <a:ea typeface="Calibri"/>
              </a:rPr>
              <a:t> enema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  <a:ea typeface="Calibri"/>
              </a:rPr>
              <a:t>("unprepped", ie, without measures to remove stool from the rectum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to investigate the possibility of Hirschsprung disease ” 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404" name="Picture 3" descr="UpToDate-20-146x180.jpg"/>
          <p:cNvPicPr/>
          <p:nvPr/>
        </p:nvPicPr>
        <p:blipFill>
          <a:blip r:embed="rId2"/>
          <a:stretch/>
        </p:blipFill>
        <p:spPr>
          <a:xfrm>
            <a:off x="380880" y="571680"/>
            <a:ext cx="139068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5f6d"/>
                </a:solidFill>
                <a:latin typeface="Calibri"/>
                <a:ea typeface="Calibri"/>
              </a:rPr>
              <a:t>CONTRAST ENEMA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No colon preparation of any typ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No dietary restrict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No digital rectal examination within 24h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No enterocoliti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5f6d"/>
                </a:solidFill>
                <a:latin typeface="Calibri"/>
                <a:ea typeface="Calibri"/>
              </a:rPr>
              <a:t>CONCLUSION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Patient preparation process before contrast enem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For patient with enterocolitis or recent rectal biopsy: treat well before contrast enem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For patient without enterocoliti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No signs of clinical fecal stagnation: do unprepared contrast enem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With signs of clinical fecal stagnation: wash out or use laxatives to cleanse bowel, then stop at least 24h before contrast enem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5f6d"/>
                </a:solidFill>
                <a:latin typeface="Calibri"/>
                <a:ea typeface="Calibri"/>
              </a:rPr>
              <a:t>REFERENCES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Ciro Yoshida, Jr, MD. Hirschsprung Disease Imaging. Medscape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Calibri"/>
              </a:rPr>
              <a:t>Kristin Fiorino, Chris A. Liacouras.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Congenital Aganglionic Megacolon (Hirschsprung Disease)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  <a:ea typeface="Calibri"/>
              </a:rPr>
              <a:t>. Nels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Anne-Marie Dixon. The abdomen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Paediatic Radiography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David E Wesson, MD.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Congenital aganglionic megacolon (Hirschsprung disease). UpToDat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80880" y="914400"/>
            <a:ext cx="74678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575f6d"/>
                </a:solidFill>
                <a:latin typeface="Calibri"/>
                <a:ea typeface="Calibri"/>
              </a:rPr>
              <a:t>THANK YOU !!!</a:t>
            </a:r>
            <a:endParaRPr b="0" lang="en-US" sz="60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5f6d"/>
                </a:solidFill>
                <a:latin typeface="Calibri"/>
                <a:ea typeface="Calibri"/>
              </a:rPr>
              <a:t>CONTENT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Clinical assessment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Diagnostic tests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5f6d"/>
                </a:solidFill>
                <a:latin typeface="Calibri"/>
                <a:ea typeface="Calibri"/>
              </a:rPr>
              <a:t>OVERVIEW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Hirschspung disease (HD): congenital aganglionic megacolon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Etiology: failure of migration of ganglion cells along the gastrointestinal tract during the 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through 1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  <a:ea typeface="Calibri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weeks of embryonic development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Genetic abnormality: del 10 (q11.21,q21.2), trisomy 18,21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1/5000 children, male/female: 4/1 – 1/1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Complication: enterocolitis, sepsis, intestinal perforation.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5f6d"/>
                </a:solidFill>
                <a:latin typeface="Calibri"/>
                <a:ea typeface="Calibri"/>
              </a:rPr>
              <a:t>CLINICAL ASSESSMENT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Rounded Rectangle 3"/>
          <p:cNvSpPr/>
          <p:nvPr/>
        </p:nvSpPr>
        <p:spPr>
          <a:xfrm>
            <a:off x="2971800" y="1066680"/>
            <a:ext cx="2971800" cy="685800"/>
          </a:xfrm>
          <a:prstGeom prst="roundRect">
            <a:avLst>
              <a:gd name="adj" fmla="val 16667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Suspected Hirschsprung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9" name="Straight Connector 5"/>
          <p:cNvSpPr/>
          <p:nvPr/>
        </p:nvSpPr>
        <p:spPr>
          <a:xfrm>
            <a:off x="2209680" y="2057400"/>
            <a:ext cx="4267440" cy="1440"/>
          </a:xfrm>
          <a:prstGeom prst="line">
            <a:avLst/>
          </a:prstGeom>
          <a:ln w="25560">
            <a:solidFill>
              <a:srgbClr val="ff69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cxnSp>
        <p:nvCxnSpPr>
          <p:cNvPr id="360" name="Elbow Connector 20"/>
          <p:cNvCxnSpPr>
            <a:stCxn id="358" idx="2"/>
          </p:cNvCxnSpPr>
          <p:nvPr/>
        </p:nvCxnSpPr>
        <p:spPr>
          <a:xfrm flipH="1" rot="16200000">
            <a:off x="4323240" y="1885680"/>
            <a:ext cx="305640" cy="38520"/>
          </a:xfrm>
          <a:prstGeom prst="bentConnector3">
            <a:avLst>
              <a:gd name="adj1" fmla="val 96108"/>
            </a:avLst>
          </a:prstGeom>
          <a:ln w="25560">
            <a:solidFill>
              <a:srgbClr val="ff6903"/>
            </a:solidFill>
            <a:miter/>
          </a:ln>
        </p:spPr>
      </p:cxnSp>
      <p:cxnSp>
        <p:nvCxnSpPr>
          <p:cNvPr id="361" name="Straight Arrow Connector 24"/>
          <p:cNvCxnSpPr/>
          <p:nvPr/>
        </p:nvCxnSpPr>
        <p:spPr>
          <a:xfrm flipH="1">
            <a:off x="2208960" y="2057040"/>
            <a:ext cx="2520" cy="305640"/>
          </a:xfrm>
          <a:prstGeom prst="straightConnector1">
            <a:avLst/>
          </a:prstGeom>
          <a:ln w="25560">
            <a:solidFill>
              <a:srgbClr val="ff6903"/>
            </a:solidFill>
            <a:miter/>
            <a:tailEnd len="med" type="triangle" w="med"/>
          </a:ln>
        </p:spPr>
      </p:cxnSp>
      <p:cxnSp>
        <p:nvCxnSpPr>
          <p:cNvPr id="362" name="Straight Arrow Connector 25"/>
          <p:cNvCxnSpPr/>
          <p:nvPr/>
        </p:nvCxnSpPr>
        <p:spPr>
          <a:xfrm flipH="1">
            <a:off x="6476760" y="2057040"/>
            <a:ext cx="2160" cy="305640"/>
          </a:xfrm>
          <a:prstGeom prst="straightConnector1">
            <a:avLst/>
          </a:prstGeom>
          <a:ln w="25560">
            <a:solidFill>
              <a:srgbClr val="ff6903"/>
            </a:solidFill>
            <a:miter/>
            <a:tailEnd len="med" type="triangle" w="med"/>
          </a:ln>
        </p:spPr>
      </p:cxnSp>
      <p:sp>
        <p:nvSpPr>
          <p:cNvPr id="363" name="Rounded Rectangle 26"/>
          <p:cNvSpPr/>
          <p:nvPr/>
        </p:nvSpPr>
        <p:spPr>
          <a:xfrm>
            <a:off x="990720" y="2362320"/>
            <a:ext cx="2743200" cy="533160"/>
          </a:xfrm>
          <a:prstGeom prst="roundRect">
            <a:avLst>
              <a:gd name="adj" fmla="val 16667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High suspic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4" name="Rounded Rectangle 27"/>
          <p:cNvSpPr/>
          <p:nvPr/>
        </p:nvSpPr>
        <p:spPr>
          <a:xfrm>
            <a:off x="5105520" y="2362320"/>
            <a:ext cx="2743200" cy="533160"/>
          </a:xfrm>
          <a:prstGeom prst="roundRect">
            <a:avLst>
              <a:gd name="adj" fmla="val 16667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Low suspic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cxnSp>
        <p:nvCxnSpPr>
          <p:cNvPr id="365" name="Straight Arrow Connector 28"/>
          <p:cNvCxnSpPr/>
          <p:nvPr/>
        </p:nvCxnSpPr>
        <p:spPr>
          <a:xfrm flipH="1">
            <a:off x="2208960" y="2895480"/>
            <a:ext cx="2520" cy="457920"/>
          </a:xfrm>
          <a:prstGeom prst="straightConnector1">
            <a:avLst/>
          </a:prstGeom>
          <a:ln w="25560">
            <a:solidFill>
              <a:srgbClr val="ff6903"/>
            </a:solidFill>
            <a:miter/>
            <a:tailEnd len="med" type="triangle" w="med"/>
          </a:ln>
        </p:spPr>
      </p:cxnSp>
      <p:sp>
        <p:nvSpPr>
          <p:cNvPr id="366" name="Rounded Rectangle 30"/>
          <p:cNvSpPr/>
          <p:nvPr/>
        </p:nvSpPr>
        <p:spPr>
          <a:xfrm>
            <a:off x="304920" y="3352680"/>
            <a:ext cx="4419360" cy="1143000"/>
          </a:xfrm>
          <a:prstGeom prst="roundRect">
            <a:avLst>
              <a:gd name="adj" fmla="val 16667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Enterocolitis ?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Symp: fever, vomiting, diarrhea, abdominal distension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Stool exam: RBC, WBC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alibri"/>
                <a:ea typeface="Calibri"/>
              </a:rPr>
              <a:t>Plain xray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cxnSp>
        <p:nvCxnSpPr>
          <p:cNvPr id="367" name="Straight Arrow Connector 32"/>
          <p:cNvCxnSpPr/>
          <p:nvPr/>
        </p:nvCxnSpPr>
        <p:spPr>
          <a:xfrm flipH="1">
            <a:off x="1294560" y="4495680"/>
            <a:ext cx="839160" cy="534240"/>
          </a:xfrm>
          <a:prstGeom prst="straightConnector1">
            <a:avLst/>
          </a:prstGeom>
          <a:ln w="25560">
            <a:solidFill>
              <a:srgbClr val="ff6903"/>
            </a:solidFill>
            <a:miter/>
            <a:tailEnd len="med" type="triangle" w="med"/>
          </a:ln>
        </p:spPr>
      </p:cxnSp>
      <p:cxnSp>
        <p:nvCxnSpPr>
          <p:cNvPr id="368" name="Straight Arrow Connector 34"/>
          <p:cNvCxnSpPr/>
          <p:nvPr/>
        </p:nvCxnSpPr>
        <p:spPr>
          <a:xfrm>
            <a:off x="2133720" y="4495680"/>
            <a:ext cx="838800" cy="534240"/>
          </a:xfrm>
          <a:prstGeom prst="straightConnector1">
            <a:avLst/>
          </a:prstGeom>
          <a:ln w="25560">
            <a:solidFill>
              <a:srgbClr val="ff6903"/>
            </a:solidFill>
            <a:miter/>
            <a:tailEnd len="med" type="triangle" w="med"/>
          </a:ln>
        </p:spPr>
      </p:cxnSp>
      <p:sp>
        <p:nvSpPr>
          <p:cNvPr id="369" name="TextBox 36"/>
          <p:cNvSpPr/>
          <p:nvPr/>
        </p:nvSpPr>
        <p:spPr>
          <a:xfrm>
            <a:off x="1219320" y="4495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0" name="TextBox 37"/>
          <p:cNvSpPr/>
          <p:nvPr/>
        </p:nvSpPr>
        <p:spPr>
          <a:xfrm>
            <a:off x="2590920" y="449568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1" name="Rounded Rectangle 38"/>
          <p:cNvSpPr/>
          <p:nvPr/>
        </p:nvSpPr>
        <p:spPr>
          <a:xfrm>
            <a:off x="304920" y="5029200"/>
            <a:ext cx="1600200" cy="457200"/>
          </a:xfrm>
          <a:prstGeom prst="roundRect">
            <a:avLst>
              <a:gd name="adj" fmla="val 16667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treatmen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2" name="Rounded Rectangle 39"/>
          <p:cNvSpPr/>
          <p:nvPr/>
        </p:nvSpPr>
        <p:spPr>
          <a:xfrm>
            <a:off x="2286000" y="5029200"/>
            <a:ext cx="2362320" cy="457200"/>
          </a:xfrm>
          <a:prstGeom prst="roundRect">
            <a:avLst>
              <a:gd name="adj" fmla="val 16667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Contrast  enem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cxnSp>
        <p:nvCxnSpPr>
          <p:cNvPr id="373" name="Straight Arrow Connector 41"/>
          <p:cNvCxnSpPr>
            <a:stCxn id="371" idx="3"/>
            <a:endCxn id="372" idx="1"/>
          </p:cNvCxnSpPr>
          <p:nvPr/>
        </p:nvCxnSpPr>
        <p:spPr>
          <a:xfrm>
            <a:off x="1905120" y="5257800"/>
            <a:ext cx="381600" cy="2160"/>
          </a:xfrm>
          <a:prstGeom prst="straightConnector1">
            <a:avLst/>
          </a:prstGeom>
          <a:ln w="25560">
            <a:solidFill>
              <a:srgbClr val="ff6903"/>
            </a:solidFill>
            <a:miter/>
            <a:tailEnd len="med" type="triangle" w="med"/>
          </a:ln>
        </p:spPr>
      </p:cxnSp>
      <p:cxnSp>
        <p:nvCxnSpPr>
          <p:cNvPr id="374" name="Straight Arrow Connector 42"/>
          <p:cNvCxnSpPr>
            <a:stCxn id="364" idx="2"/>
            <a:endCxn id="375" idx="0"/>
          </p:cNvCxnSpPr>
          <p:nvPr/>
        </p:nvCxnSpPr>
        <p:spPr>
          <a:xfrm flipH="1">
            <a:off x="6474600" y="2897280"/>
            <a:ext cx="3960" cy="915120"/>
          </a:xfrm>
          <a:prstGeom prst="straightConnector1">
            <a:avLst/>
          </a:prstGeom>
          <a:ln w="25560">
            <a:solidFill>
              <a:srgbClr val="ff6903"/>
            </a:solidFill>
            <a:miter/>
            <a:tailEnd len="med" type="triangle" w="med"/>
          </a:ln>
        </p:spPr>
      </p:cxnSp>
      <p:sp>
        <p:nvSpPr>
          <p:cNvPr id="375" name="Rounded Rectangle 43"/>
          <p:cNvSpPr/>
          <p:nvPr/>
        </p:nvSpPr>
        <p:spPr>
          <a:xfrm>
            <a:off x="5105520" y="3809880"/>
            <a:ext cx="2743200" cy="609840"/>
          </a:xfrm>
          <a:prstGeom prst="roundRect">
            <a:avLst>
              <a:gd name="adj" fmla="val 16667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Plain abdominal radiograph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cxnSp>
        <p:nvCxnSpPr>
          <p:cNvPr id="376" name="Shape 49"/>
          <p:cNvCxnSpPr>
            <a:stCxn id="375" idx="2"/>
          </p:cNvCxnSpPr>
          <p:nvPr/>
        </p:nvCxnSpPr>
        <p:spPr>
          <a:xfrm rot="5400000">
            <a:off x="5028480" y="3810240"/>
            <a:ext cx="838800" cy="2057760"/>
          </a:xfrm>
          <a:prstGeom prst="bentConnector2">
            <a:avLst/>
          </a:prstGeom>
          <a:ln w="25560">
            <a:solidFill>
              <a:srgbClr val="ff6903"/>
            </a:solidFill>
            <a:miter/>
            <a:tailEnd len="med" type="triangle" w="med"/>
          </a:ln>
        </p:spPr>
      </p:cxnSp>
      <p:cxnSp>
        <p:nvCxnSpPr>
          <p:cNvPr id="377" name="Straight Arrow Connector 50"/>
          <p:cNvCxnSpPr/>
          <p:nvPr/>
        </p:nvCxnSpPr>
        <p:spPr>
          <a:xfrm flipH="1">
            <a:off x="3123360" y="5410080"/>
            <a:ext cx="2520" cy="457920"/>
          </a:xfrm>
          <a:prstGeom prst="straightConnector1">
            <a:avLst/>
          </a:prstGeom>
          <a:ln w="25560">
            <a:solidFill>
              <a:srgbClr val="ff6903"/>
            </a:solidFill>
            <a:miter/>
            <a:tailEnd len="med" type="triangle" w="med"/>
          </a:ln>
        </p:spPr>
      </p:cxnSp>
      <p:sp>
        <p:nvSpPr>
          <p:cNvPr id="378" name="Rounded Rectangle 51"/>
          <p:cNvSpPr/>
          <p:nvPr/>
        </p:nvSpPr>
        <p:spPr>
          <a:xfrm>
            <a:off x="2514600" y="5867280"/>
            <a:ext cx="1447920" cy="685800"/>
          </a:xfrm>
          <a:prstGeom prst="roundRect">
            <a:avLst>
              <a:gd name="adj" fmla="val 16667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Calibri"/>
              </a:rPr>
              <a:t>Consult surgery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9" name="TextBox 52"/>
          <p:cNvSpPr/>
          <p:nvPr/>
        </p:nvSpPr>
        <p:spPr>
          <a:xfrm>
            <a:off x="4648320" y="46483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No stool in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lower rectum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5f6d"/>
                </a:solidFill>
                <a:latin typeface="Calibri"/>
                <a:ea typeface="Calibri"/>
              </a:rPr>
              <a:t>CLINICAL ASSESSMENT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75c01"/>
                </a:solidFill>
                <a:latin typeface="Calibri"/>
                <a:ea typeface="Calibri"/>
              </a:rPr>
              <a:t>High suspic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Constipation, and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Delayed passage of meconium (&gt;= 48h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Abdominal distens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Down’s syndrom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Tight anal canal and rectal vault, “squirt sign”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75c01"/>
                </a:solidFill>
                <a:latin typeface="Calibri"/>
                <a:ea typeface="Calibri"/>
              </a:rPr>
              <a:t>Low suspicion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Prolonged constipation and none of these featur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5f6d"/>
                </a:solidFill>
                <a:latin typeface="Calibri"/>
                <a:ea typeface="Calibri"/>
              </a:rPr>
              <a:t>DIAGNOSTIC TEST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4" name="Picture 1" descr=""/>
          <p:cNvPicPr/>
          <p:nvPr/>
        </p:nvPicPr>
        <p:blipFill>
          <a:blip r:embed="rId1"/>
          <a:stretch/>
        </p:blipFill>
        <p:spPr>
          <a:xfrm>
            <a:off x="533520" y="1371600"/>
            <a:ext cx="72388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5f6d"/>
                </a:solidFill>
                <a:latin typeface="Calibri"/>
                <a:ea typeface="Calibri"/>
              </a:rPr>
              <a:t>DIAGNOSTIC TEST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contrast enema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 initial diagnostic procedur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Biopsy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 confirm the diagnosi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5f6d"/>
                </a:solidFill>
                <a:latin typeface="Calibri"/>
                <a:ea typeface="Calibri"/>
              </a:rPr>
              <a:t>CONTRAST ENEMA - SIGN</a:t>
            </a: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  <a:ea typeface="Calibri"/>
              </a:rPr>
              <a:t>Transition zone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Abnormal, irregular contractions of aganglionic segment – 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  <a:ea typeface="Calibri"/>
              </a:rPr>
              <a:t>rectal sigmoid index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Thickening and nodularity of colonic mucosa proximal to transition zon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Delayed evacuation of barium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Mixed barium-stool pattern on delayed radiograph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Distended bowel loops on plain radiographs that almost fill after contrast enema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Question mark–shaped colon in total colonic aganglionosi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90" name="Picture 2" descr=""/>
          <p:cNvPicPr/>
          <p:nvPr/>
        </p:nvPicPr>
        <p:blipFill>
          <a:blip r:embed="rId1"/>
          <a:stretch/>
        </p:blipFill>
        <p:spPr>
          <a:xfrm>
            <a:off x="914400" y="1066680"/>
            <a:ext cx="3386160" cy="4343400"/>
          </a:xfrm>
          <a:prstGeom prst="rect">
            <a:avLst/>
          </a:prstGeom>
          <a:ln w="0">
            <a:noFill/>
          </a:ln>
        </p:spPr>
      </p:pic>
      <p:sp>
        <p:nvSpPr>
          <p:cNvPr id="391" name="TextBox 4"/>
          <p:cNvSpPr/>
          <p:nvPr/>
        </p:nvSpPr>
        <p:spPr>
          <a:xfrm>
            <a:off x="990720" y="541008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Transition zone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2" name="Picture 45" descr="Hirschsprung disease. Lateral view from a barium e"/>
          <p:cNvPicPr/>
          <p:nvPr/>
        </p:nvPicPr>
        <p:blipFill>
          <a:blip r:embed="rId2"/>
          <a:stretch/>
        </p:blipFill>
        <p:spPr>
          <a:xfrm>
            <a:off x="4724280" y="1219320"/>
            <a:ext cx="3988080" cy="3209760"/>
          </a:xfrm>
          <a:prstGeom prst="rect">
            <a:avLst/>
          </a:prstGeom>
          <a:ln w="0">
            <a:noFill/>
          </a:ln>
        </p:spPr>
      </p:pic>
      <p:sp>
        <p:nvSpPr>
          <p:cNvPr id="393" name="TextBox 6"/>
          <p:cNvSpPr/>
          <p:nvPr/>
        </p:nvSpPr>
        <p:spPr>
          <a:xfrm>
            <a:off x="4800600" y="480060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Rectal sigmoid index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13T16:02:29Z</dcterms:created>
  <dc:creator>Win7</dc:creator>
  <dc:description/>
  <dc:language>en-US</dc:language>
  <cp:lastModifiedBy>AVENIS</cp:lastModifiedBy>
  <dcterms:modified xsi:type="dcterms:W3CDTF">2014-01-21T00:24:22Z</dcterms:modified>
  <cp:revision>68</cp:revision>
  <dc:subject/>
  <dc:title>ASSESSMENT FOR HIRSCHSPRUNG DISEASE AT</dc:title>
</cp:coreProperties>
</file>